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7C74-6D59-4426-8E46-0984D90E29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DF4-CE50-4152-B738-2210A204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C67-0199-4D30-9421-61814D03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9E1-7A1F-48E5-AEB7-73190983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C28-26AD-45E7-83B6-BBC1B34A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4B6-EB5B-45A5-8222-A64FB23A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438-07E7-4347-A106-B4331049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97E-4610-4234-8FF1-59B3F9E6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9A0-D8BA-4A2A-8C67-14E21701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C1E-1CBF-411B-9919-EC8780A8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53C-2E67-4C56-9289-18DCC745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B3D-757D-493E-A5D4-E6285F9B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0B0-35BF-433B-8FB7-72EE533D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CD48-5152-4CBA-8199-A771BD749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4, the Carbo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55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metal carbon exists as an element in several f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’re familiar with two of them—diamond and graph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5"/>
          <p:cNvPicPr/>
          <p:nvPr/>
        </p:nvPicPr>
        <p:blipFill>
          <a:blip r:embed="rId1"/>
          <a:stretch/>
        </p:blipFill>
        <p:spPr>
          <a:xfrm>
            <a:off x="3909960" y="1981080"/>
            <a:ext cx="3944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9068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also is found in all living thing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21016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followed by the metalloid silicon, an abundant element contained in sa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3520" y="324468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 contains ground up particles of minerals such as quartz, which is composed of silicon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4822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 is an important product made from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13716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and its Group 14 neighbor, germanium, are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2460600"/>
            <a:ext cx="548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sed in electronics as semicondu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508200"/>
            <a:ext cx="5105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ond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n’t conduct electricity as well as metal, but does conduct electricity better than a nonme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im27 semiconductor"/>
          <p:cNvPicPr/>
          <p:nvPr/>
        </p:nvPicPr>
        <p:blipFill>
          <a:blip r:embed="rId1"/>
          <a:stretch/>
        </p:blipFill>
        <p:spPr>
          <a:xfrm>
            <a:off x="5715000" y="2057400"/>
            <a:ext cx="2965320" cy="3298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873000" y="3962520"/>
            <a:ext cx="4765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and lead are the two heaviest elements in Group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21430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s used to protect your torso during dental X ray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3520" y="3070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8736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is used in pewter, toothpaste, and the coating on steel cans used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7:32Z</dcterms:created>
  <dc:creator>CIC1</dc:creator>
  <dc:description/>
  <dc:language>en-US</dc:language>
  <cp:lastModifiedBy>RomaK</cp:lastModifiedBy>
  <dcterms:modified xsi:type="dcterms:W3CDTF">2015-09-01T16:26:47Z</dcterms:modified>
  <cp:revision>6</cp:revision>
  <dc:subject/>
  <dc:title>Group 14, the Carbon Group</dc:title>
</cp:coreProperties>
</file>